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934320" y="6248520"/>
            <a:ext cx="1676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" name=""/>
          <p:cNvGraphicFramePr/>
          <p:nvPr/>
        </p:nvGraphicFramePr>
        <p:xfrm>
          <a:off x="2843280" y="1989000"/>
          <a:ext cx="3672000" cy="22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1989000"/>
                    <a:ext cx="3672000" cy="22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" name=""/>
          <p:cNvSpPr/>
          <p:nvPr/>
        </p:nvSpPr>
        <p:spPr>
          <a:xfrm>
            <a:off x="395280" y="333360"/>
            <a:ext cx="8352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dimentos para apresentação e normalização de trabalhos acadêmicos: Ci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47640" y="4653000"/>
            <a:ext cx="630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aria Bernardete Martins Al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arili I. Lo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FSC/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. Alves e Marili I. Lopes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416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Citação Direta</a:t>
            </a:r>
            <a:br>
              <a:rPr sz="2400"/>
            </a:br>
            <a:r>
              <a:rPr b="1" lang="en-US" sz="2400" spc="-1" strike="noStrike">
                <a:solidFill>
                  <a:srgbClr val="cc0066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Regras gerais para apresentação</a:t>
            </a: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itações com mais de três linhas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devem ser destacadas com 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cuo de 4 c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u vinte e oito toques  da margem  esquerda 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m tipo de letra  menor do  que a utilizada no  texto,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m as as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 com  espaçamento  simples.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NBR 10520, 2002, p. 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-208800"/>
            <a:ext cx="539640" cy="902520"/>
          </a:xfrm>
          <a:prstGeom prst="bevel">
            <a:avLst>
              <a:gd name="adj" fmla="val 12500"/>
            </a:avLst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3573360"/>
            <a:ext cx="1295640" cy="609840"/>
          </a:xfrm>
          <a:prstGeom prst="flowChartAlternateProcess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g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47640" y="3213000"/>
            <a:ext cx="7274160" cy="2200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9df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O comportamento dos cientistas muda a medida que ele avança e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seu projeto de pesquisa e que certos padrões de   comport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estão associados e são afetados pelos diversos estágios da pesquis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De modo direto ou indireto o  comportamento ‘é afetado pela tarefa’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desempenhada nos estágios de pesquisa, pela informação procurad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[...] e, pela habilidade do pesquisador em perceber a relevância 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informação para o tópico ou questão da pesquisa. (SILVA et a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1998, p. 3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. Alves e Marili I. Lopes</a:t>
            </a: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23640" y="1844280"/>
            <a:ext cx="8351640" cy="4124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ffcc99"/>
            </a:outerShdw>
          </a:effectLst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Verdana"/>
              </a:rPr>
              <a:t>No tex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	</a:t>
            </a:r>
            <a:r>
              <a:rPr b="0" lang="pt-PT" sz="1900" spc="-1" strike="noStrike">
                <a:solidFill>
                  <a:srgbClr val="000099"/>
                </a:solidFill>
                <a:latin typeface="Verdana"/>
                <a:ea typeface="Times New Roman"/>
              </a:rPr>
              <a:t>Leedy </a:t>
            </a:r>
            <a:r>
              <a:rPr b="0" lang="pt-PT" sz="1900" spc="-1" strike="noStrike">
                <a:solidFill>
                  <a:srgbClr val="008000"/>
                </a:solidFill>
                <a:latin typeface="Verdana"/>
                <a:ea typeface="Times New Roman"/>
              </a:rPr>
              <a:t>(1988 apud RICHARDSON, 1991, p. 417)</a:t>
            </a:r>
            <a:r>
              <a:rPr b="0" lang="pt-PT" sz="1900" spc="-1" strike="noStrike">
                <a:solidFill>
                  <a:srgbClr val="000099"/>
                </a:solidFill>
                <a:latin typeface="Verdana"/>
                <a:ea typeface="Times New Roman"/>
              </a:rPr>
              <a:t> compartilha deste ponto de vista ao afirmar “os estudantes estão enganados quando acreditam que eles estão fazendo pesquisa, quando de fato eles estão apenas transferindo informação factual [...]”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Verdana"/>
              </a:rPr>
              <a:t>Na lista de referências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Faz-se a referência do documento c</a:t>
            </a: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onsultado.</a:t>
            </a: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ICHARDSON, Jean. Even high school students can do real  research.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tholic Libr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orl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p. 414-418, may/jun. 19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Verdana"/>
              </a:rPr>
              <a:t>No rodapé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referência do autor citado 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é op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899640" y="333360"/>
            <a:ext cx="762012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ffcc99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Citação de citação:</a:t>
            </a: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É a citação de um texto que tivemos acesso a partir de outro document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4640" y="198000"/>
            <a:ext cx="541800" cy="514080"/>
          </a:xfrm>
          <a:prstGeom prst="bevel">
            <a:avLst>
              <a:gd name="adj" fmla="val 12500"/>
            </a:avLst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5013360"/>
            <a:ext cx="7993080" cy="576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9df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5013360"/>
            <a:ext cx="7920000" cy="647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9df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. Alves e Marili I. Lopes</a:t>
            </a: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6216840" cy="731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Verdana"/>
              </a:rPr>
              <a:t>Citação de texto traduz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369280" cy="4608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99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ndo a citação incluir texto traduzido pelo autor, devemos ci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ós a chamada da citação, a expressão </a:t>
            </a:r>
            <a:r>
              <a:rPr b="1" lang="en-US" sz="1800" spc="-1" strike="noStrike">
                <a:solidFill>
                  <a:srgbClr val="990099"/>
                </a:solidFill>
                <a:latin typeface="Verdana"/>
              </a:rPr>
              <a:t>“tradução nossa”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n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rênte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cc99"/>
                </a:solidFill>
                <a:latin typeface="Verdana"/>
              </a:rPr>
              <a:t>    </a:t>
            </a:r>
            <a:r>
              <a:rPr b="1" lang="pt-BR" sz="1600" spc="-1" strike="noStrike">
                <a:solidFill>
                  <a:srgbClr val="00cc99"/>
                </a:solidFill>
                <a:latin typeface="Verdana"/>
              </a:rPr>
              <a:t>No tex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1400" y="213840"/>
            <a:ext cx="541800" cy="514080"/>
          </a:xfrm>
          <a:prstGeom prst="bevel">
            <a:avLst>
              <a:gd name="adj" fmla="val 125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997360"/>
            <a:ext cx="77752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ansiedade de biblioteca é caracterizada como um sentimento negativo, uma incerteza que causa uma desordem mental nos estudantes, quando estes usam a biblioteca, desconhecendo a organização de seus recursos” </a:t>
            </a:r>
            <a:r>
              <a:rPr b="1" lang="en-US" sz="1600" spc="-1" strike="noStrike">
                <a:solidFill>
                  <a:srgbClr val="00cc99"/>
                </a:solidFill>
                <a:latin typeface="Verdana"/>
              </a:rPr>
              <a:t>(MELLON, 1986, p. 163, tradução nossa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4508640"/>
            <a:ext cx="7777080" cy="14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cc99"/>
                </a:solidFill>
                <a:latin typeface="Verdana"/>
              </a:rPr>
              <a:t>Referência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MELLON, Constance A. Library anxiety: a grounded theory and its development. 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College &amp; Research Libraries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, v. 47, p. 161-165, mar. 198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. Alves e Marili I. Lopes</a:t>
            </a: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47640" y="620280"/>
            <a:ext cx="554544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Informação ver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42160" cy="396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Os dados obtidos por </a:t>
            </a:r>
            <a:r>
              <a:rPr b="0" lang="pt-BR" sz="1400" spc="-1" strike="noStrike">
                <a:solidFill>
                  <a:srgbClr val="ff0000"/>
                </a:solidFill>
                <a:latin typeface="Verdana"/>
              </a:rPr>
              <a:t>informação verbal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 (palestras, entrevistas, debates, aulas,  etc) deve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ser  mencionados no texto seguidos da expressão (informação verbal) entre parênteses.   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dados disponíveis sobre a fonte devem ser  mencionados </a:t>
            </a:r>
            <a:r>
              <a:rPr b="0" lang="pt-BR" sz="1400" spc="-1" strike="noStrike">
                <a:solidFill>
                  <a:srgbClr val="ff0000"/>
                </a:solidFill>
                <a:latin typeface="Verdana"/>
              </a:rPr>
              <a:t>apenas em notas de rodapé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.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0000"/>
                </a:solidFill>
                <a:latin typeface="Verdana"/>
              </a:rPr>
              <a:t>No text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A nova revisão da AACR2, em folhas soltas, estará disponível para venda em setembro des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ano (informação verbal)</a:t>
            </a:r>
            <a:r>
              <a:rPr b="0" lang="pt-BR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pt-BR" sz="1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0000"/>
                </a:solidFill>
                <a:latin typeface="Verdana"/>
              </a:rPr>
              <a:t>No rodap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pt-BR" sz="14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1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Noticia fornecida pela Prof. Maria Teresa Reis Mendes na aula final da discipl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atalogação, na Escola de Biblioteconomia da Universidade  do Rio de Janeiro, em agosto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200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9240" y="213840"/>
            <a:ext cx="545400" cy="514080"/>
          </a:xfrm>
          <a:prstGeom prst="bevel">
            <a:avLst>
              <a:gd name="adj" fmla="val 125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4724280"/>
            <a:ext cx="223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. Alves e Marili I. Lopes</a:t>
            </a: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360" y="476280"/>
            <a:ext cx="37432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24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as até três linh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agados sobre a qualidade dos seus cursos  e graduação, cerca de 70% dos entrevistados afirmam ser insuficientes. O entrevistado 2, por exemplo, afirma que  “a graduação foi insuficiente, não tem condições de formar para a prática. É necessário uma formação generalista e um pensar crítico”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as com mais de três linh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ja-se, a título de ilustração, o que diz o entrevistado 9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ão tinha nenhuma motivação para trabalhar em hospital, não. Nunca pensei em trabalhar em hospital.[...]. Trabalhava no interior e pedi transferência. Depois de muita batalha, consegui. Quando cheguei aqui, me colocaram quatro opções de trabalho, cada uma mais complicada que a outra. [...]. Foi difícil no começ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7200" y="-14760"/>
            <a:ext cx="541800" cy="514080"/>
          </a:xfrm>
          <a:prstGeom prst="bevel">
            <a:avLst>
              <a:gd name="adj" fmla="val 125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. Alves e Marili I. Lopes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8360" y="2060640"/>
            <a:ext cx="8447040" cy="274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Os colchetes são usados para indicar interrupções ou supressões do texto [...], acréscimos ou comentários [  ], dúvida [?] ou destaque [sem grifo no original, grifo meu, etc]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cc99"/>
                </a:solidFill>
                <a:latin typeface="Verdana"/>
                <a:ea typeface="Times New Roman"/>
              </a:rPr>
              <a:t>Exemp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Assim como a psicanálise empresta seus conceitos </a:t>
            </a:r>
            <a:r>
              <a:rPr b="0" lang="pt-PT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[para auxiliar]</a:t>
            </a:r>
            <a:r>
              <a:rPr b="0" lang="pt-PT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a biblioteconomia a desvendar  caminhos que a levarão ao entendimento da dinâmica </a:t>
            </a:r>
            <a:r>
              <a:rPr b="0" lang="pt-PT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[...]</a:t>
            </a:r>
            <a:r>
              <a:rPr b="0" lang="pt-PT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, produzir mudanças benéficas </a:t>
            </a:r>
            <a:r>
              <a:rPr b="0" lang="pt-PT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[?]</a:t>
            </a:r>
            <a:r>
              <a:rPr b="0" lang="pt-PT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instrumentalizando seus profissionais na tarefa impossível </a:t>
            </a:r>
            <a:r>
              <a:rPr b="0" lang="pt-PT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[!]</a:t>
            </a:r>
            <a:r>
              <a:rPr b="0" lang="pt-PT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de educar, de formar </a:t>
            </a:r>
            <a:r>
              <a:rPr b="0" lang="pt-PT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ujeitos capazes</a:t>
            </a:r>
            <a:r>
              <a:rPr b="0" lang="pt-PT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de se auto suprirem de saber. (MENDES; CRUZ; CURTY, 2005, p. 18, sem grifo no original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7200" y="-14760"/>
            <a:ext cx="541800" cy="514080"/>
          </a:xfrm>
          <a:prstGeom prst="bevel">
            <a:avLst>
              <a:gd name="adj" fmla="val 125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476280"/>
            <a:ext cx="77724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Verdana"/>
              </a:rPr>
              <a:t>Citação Direta:  regras gerais para apresentação NBR-10520,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. Alves e Marili I. Lopes</a:t>
            </a: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0880"/>
            <a:ext cx="4835520" cy="74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pt-BR" sz="3000" spc="-1" strike="noStrike">
                <a:solidFill>
                  <a:srgbClr val="008000"/>
                </a:solidFill>
                <a:latin typeface="Tahoma"/>
              </a:rPr>
              <a:t>Sistemas de chamad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1413000"/>
            <a:ext cx="8686800" cy="4647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Verdana"/>
              </a:rPr>
              <a:t>Autor-data:</a:t>
            </a: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dica-se a fonte, pelo sobrenome do autor, nome  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stituição responsável ou pelo título, seguidos da data de  publicação 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ocumento, separados por vírgula e entre  parênteses, citação indire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ra as citações diretas, inclui-se a indicação de página. (NBR10520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, p. 4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Exempl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Verdana"/>
              </a:rPr>
              <a:t>Citação direta: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“fazendo um relatório com algumas notas de rodapé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MCGREGOR, 1999, p. 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Citação indireta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Neste texto,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 papel do bibliotecário ganh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importância como educador (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UDZIAK; GABRIEL; VILLELA, 200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1400" y="213840"/>
            <a:ext cx="541800" cy="514080"/>
          </a:xfrm>
          <a:prstGeom prst="bevel">
            <a:avLst>
              <a:gd name="adj" fmla="val 12500"/>
            </a:avLst>
          </a:prstGeom>
          <a:solidFill>
            <a:srgbClr val="ffe6c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. Alves e Marili I. Lopes</a:t>
            </a: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480" y="380880"/>
            <a:ext cx="5486400" cy="96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pt-BR" sz="2800" spc="-1" strike="noStrike">
                <a:solidFill>
                  <a:srgbClr val="00cc99"/>
                </a:solidFill>
                <a:latin typeface="Tahoma"/>
              </a:rPr>
              <a:t>Sistemas de cham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97800" cy="358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cc99"/>
                </a:solidFill>
                <a:latin typeface="Verdana"/>
              </a:rPr>
              <a:t>Numérico:</a:t>
            </a:r>
            <a:r>
              <a:rPr b="1" lang="pt-BR" sz="18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as citações devem ter uma numeração única e consecu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colocadas acima do texto, em expoente, entre parênteses, alinhada a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tex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ff0066"/>
                </a:solidFill>
                <a:latin typeface="Verdana"/>
              </a:rPr>
              <a:t>Exemp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Verdana"/>
              </a:rPr>
              <a:t>No text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“fazendo um relatório com algumas notas de rodapé”</a:t>
            </a:r>
            <a:r>
              <a:rPr b="0" lang="pt-BR" sz="18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cc99"/>
                </a:solidFill>
                <a:latin typeface="Verdana"/>
                <a:ea typeface="Times New Roman"/>
              </a:rPr>
              <a:t>Em nota de rodapé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  <a:ea typeface="Times New Roman"/>
              </a:rPr>
              <a:t>: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pt-BR" sz="18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1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CGREGOR, 1999, p. 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1400" y="213840"/>
            <a:ext cx="541800" cy="514080"/>
          </a:xfrm>
          <a:prstGeom prst="bevel">
            <a:avLst>
              <a:gd name="adj" fmla="val 125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4508640"/>
            <a:ext cx="17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. Alves e Marili I. Lopes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76000" y="476280"/>
            <a:ext cx="577044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cc99"/>
                </a:solidFill>
                <a:latin typeface="Verdana"/>
              </a:rPr>
              <a:t>Autor-Data:  regras gerais</a:t>
            </a:r>
            <a:br>
              <a:rPr sz="2400"/>
            </a:br>
            <a:r>
              <a:rPr b="1" lang="en-US" sz="2400" spc="-1" strike="noStrike">
                <a:solidFill>
                  <a:srgbClr val="00cc99"/>
                </a:solidFill>
                <a:latin typeface="Verdana"/>
              </a:rPr>
              <a:t>NBR-10520, 2002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28036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 indicações de autoria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incluídos no text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devem ser feitas 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tras  maiúsculas e minúsculas, indicando-se a data e páginas  en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rênte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Verdana"/>
              </a:rPr>
              <a:t>Um auto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Segundo Moraes (199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Verdana"/>
              </a:rPr>
              <a:t>Dois autore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gundo Moraes e Souza (199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Verdana"/>
              </a:rPr>
              <a:t>Três autore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udziak, Gabriel e Villela (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660033"/>
                </a:solidFill>
                <a:latin typeface="Verdana"/>
                <a:ea typeface="Times New Roman"/>
              </a:rPr>
              <a:t>Mais de três autores:</a:t>
            </a:r>
            <a:r>
              <a:rPr b="0" lang="pt-PT" sz="1800" spc="-1" strike="noStrike">
                <a:solidFill>
                  <a:srgbClr val="660033"/>
                </a:solidFill>
                <a:latin typeface="Verdana"/>
                <a:ea typeface="Times New Roman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Belkin et al. (1982, p. 7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660033"/>
                </a:solidFill>
                <a:latin typeface="Verdana"/>
                <a:ea typeface="Times New Roman"/>
              </a:rPr>
              <a:t>Entrada pelo título:</a:t>
            </a:r>
            <a:r>
              <a:rPr b="1" lang="pt-P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O desenvolvimento... (199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660033"/>
                </a:solidFill>
                <a:latin typeface="Verdana"/>
                <a:ea typeface="Times New Roman"/>
              </a:rPr>
              <a:t>Entidade:</a:t>
            </a:r>
            <a:r>
              <a:rPr b="1" lang="pt-P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Comissão das comunidades europé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200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1400" y="213840"/>
            <a:ext cx="541800" cy="514080"/>
          </a:xfrm>
          <a:prstGeom prst="bevel">
            <a:avLst>
              <a:gd name="adj" fmla="val 12500"/>
            </a:avLst>
          </a:prstGeom>
          <a:solidFill>
            <a:srgbClr val="ffe6c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. Alves e Marili I. Lopes</a:t>
            </a: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590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cc99"/>
                </a:solidFill>
                <a:latin typeface="Verdana"/>
              </a:rPr>
              <a:t>Autor-Data:  regras gerais</a:t>
            </a:r>
            <a:br>
              <a:rPr sz="2400"/>
            </a:br>
            <a:r>
              <a:rPr b="1" lang="en-US" sz="2400" spc="-1" strike="noStrike">
                <a:solidFill>
                  <a:srgbClr val="00cc99"/>
                </a:solidFill>
                <a:latin typeface="Verdana"/>
              </a:rPr>
              <a:t>NBR-10520, 2002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9200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 indicações de autoria </a:t>
            </a: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 (</a:t>
            </a: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entre parênteses</a:t>
            </a: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)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vem vir 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tras maiúsculas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guidas da data e pági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Verdana"/>
              </a:rPr>
              <a:t>Um autor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MCGREGOR, 1999, p. 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660033"/>
                </a:solidFill>
                <a:latin typeface="Verdana"/>
                <a:ea typeface="Times New Roman"/>
              </a:rPr>
              <a:t>Dois autores: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RAES; SOUZA, 199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660033"/>
                </a:solidFill>
                <a:latin typeface="Verdana"/>
                <a:ea typeface="Times New Roman"/>
              </a:rPr>
              <a:t>Três autores: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(DUDZIAK; GABRIEL; VILLELA, 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660033"/>
                </a:solidFill>
                <a:latin typeface="Verdana"/>
                <a:ea typeface="Times New Roman"/>
              </a:rPr>
              <a:t>Mais de três autores: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(BELKIN et al., 200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660033"/>
                </a:solidFill>
                <a:latin typeface="Verdana"/>
                <a:ea typeface="Times New Roman"/>
              </a:rPr>
              <a:t>Entrada pelo título: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(O DESENVOLVIMENTO...,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200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660033"/>
                </a:solidFill>
                <a:latin typeface="Verdana"/>
                <a:ea typeface="Times New Roman"/>
              </a:rPr>
              <a:t>Entidades: 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COMISSÃO DAS COMUNIDADES  EUROPÉIA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200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1400" y="213840"/>
            <a:ext cx="541800" cy="514080"/>
          </a:xfrm>
          <a:prstGeom prst="bevel">
            <a:avLst>
              <a:gd name="adj" fmla="val 12500"/>
            </a:avLst>
          </a:prstGeom>
          <a:solidFill>
            <a:srgbClr val="ffe6c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. Alves e Marili I. Lopes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057400" y="990720"/>
            <a:ext cx="4875120" cy="4114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76720" y="2971800"/>
            <a:ext cx="21333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Ci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NBR105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400" y="213840"/>
            <a:ext cx="541800" cy="514080"/>
          </a:xfrm>
          <a:prstGeom prst="bevel">
            <a:avLst>
              <a:gd name="adj" fmla="val 12500"/>
            </a:avLst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. Alves e Marili I. Lopes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19240" y="213840"/>
            <a:ext cx="545400" cy="514080"/>
          </a:xfrm>
          <a:prstGeom prst="bevel">
            <a:avLst>
              <a:gd name="adj" fmla="val 12500"/>
            </a:avLst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56386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e7ffe7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Notas de Rodapé: </a:t>
            </a:r>
            <a:br>
              <a:rPr sz="2800"/>
            </a:b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NBR-10520, 2002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ocalizam-se na margem inferior da mesma págin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paradas do texto por um traço contínuo de 3 cm (NBR 14724, 2005, p.8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igitadas em espaço simples e fonte menor do que a usada para o texto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ua numeração é feita em algarismos arábicos e seqüencial para todo o documento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s linhas subseqüentes devem ser alinhadas abaixo da primeira letra da primeira palavra, de modo a destacar o expoent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 primeira citação de uma obra, obrigatoriamente deve ter sua referência completa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1" lang="en-US" sz="3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. Alves e Marili I. Lopes</a:t>
            </a: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66880" y="304920"/>
            <a:ext cx="41911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Expressões lat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Boink LET"/>
              </a:rPr>
              <a:t>Ibidem – ibid.</a:t>
            </a:r>
            <a:r>
              <a:rPr b="0" lang="pt-BR" sz="1800" spc="-1" strike="noStrike">
                <a:solidFill>
                  <a:srgbClr val="000000"/>
                </a:solidFill>
                <a:latin typeface="Boink LET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[ na mesma obra] - Usado quando se faz várias citações seguidas,  de um mesmo docu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pt-BR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Silva, 1980, p.1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pt-BR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Ibid., p.13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dem – Id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[ do mesmo autor] - Obras diferentes do mesmo auto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baseline="30000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pt-BR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Silva, 1980, p. 132                                                                                    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Id., 1992, p. 1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pus citatum - op. cit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[obra citada] - Refere-se à obra citada anteriormente, página diferente, quando houver intercalação de outras not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pt-BR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Silva, 1980, p.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pt-BR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ereira, 1991, p.2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pt-BR" sz="1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Silva, op. cit.,  p. 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ocus citatum – loc. cit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[lugar citado] - Refere-se a mesma página de uma obra citada anteriormente, quando houver intercalação de outras notas.                     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Silva, 1995, p. 1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pt-BR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ereira, 1994, p.1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pt-BR" sz="1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Silva, loc. C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9240" y="213840"/>
            <a:ext cx="545400" cy="514080"/>
          </a:xfrm>
          <a:prstGeom prst="bevel">
            <a:avLst>
              <a:gd name="adj" fmla="val 12500"/>
            </a:avLst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ffe7"/>
                </a:solidFill>
                <a:latin typeface="Tahoma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. Alves e Marili I. Lopes</a:t>
            </a: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e7ffe7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0000"/>
          </a:bodyPr>
          <a:p>
            <a:pPr marL="30852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Tahoma"/>
              </a:rPr>
              <a:t>As expressões latinas somente podem ser usadas em notas de rodapé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Tahoma"/>
              </a:rPr>
              <a:t>Das expressões latinas, a expressão  </a:t>
            </a:r>
            <a:r>
              <a:rPr b="1" lang="pt-BR" sz="2200" spc="-1" strike="noStrike">
                <a:solidFill>
                  <a:srgbClr val="ff0066"/>
                </a:solidFill>
                <a:latin typeface="Tahoma"/>
              </a:rPr>
              <a:t>apud</a:t>
            </a:r>
            <a:r>
              <a:rPr b="1" lang="pt-BR" sz="2200" spc="-1" strike="noStrike">
                <a:solidFill>
                  <a:srgbClr val="000066"/>
                </a:solidFill>
                <a:latin typeface="Tahoma"/>
              </a:rPr>
              <a:t> também pode ser usada no text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2514600" y="609120"/>
            <a:ext cx="45720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e7ffe7"/>
            </a:solidFill>
            <a:miter/>
          </a:ln>
          <a:effectLst>
            <a:outerShdw dist="153753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Expressões lat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1400" y="213840"/>
            <a:ext cx="541800" cy="514080"/>
          </a:xfrm>
          <a:prstGeom prst="bevel">
            <a:avLst>
              <a:gd name="adj" fmla="val 125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. Alves e Marili I. Lopes</a:t>
            </a: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5486400" cy="1143000"/>
          </a:xfrm>
          <a:prstGeom prst="rect">
            <a:avLst/>
          </a:prstGeom>
          <a:solidFill>
            <a:srgbClr val="ffe6c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 quê é citaçã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2349360"/>
            <a:ext cx="7925040" cy="2238480"/>
          </a:xfrm>
          <a:prstGeom prst="rect">
            <a:avLst/>
          </a:prstGeom>
          <a:solidFill>
            <a:srgbClr val="ffe6cd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cc99"/>
                </a:solidFill>
                <a:latin typeface="Verdana"/>
              </a:rPr>
              <a:t>menção, no texto, de uma informação extraída de outra fon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Verdana"/>
              </a:rPr>
              <a:t>(NBR-10520, 2002, p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1400" y="213840"/>
            <a:ext cx="541800" cy="514080"/>
          </a:xfrm>
          <a:prstGeom prst="bevel">
            <a:avLst>
              <a:gd name="adj" fmla="val 125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. Alves e Marili I. Lopes</a:t>
            </a: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5257800" cy="6858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40186" dir="4303641" blurRad="0" rotWithShape="0">
              <a:srgbClr val="6600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Por quê usar citaçã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848720" cy="2511360"/>
          </a:xfrm>
          <a:prstGeom prst="rect">
            <a:avLst/>
          </a:prstGeom>
          <a:solidFill>
            <a:srgbClr val="ffe6c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r credibilidade ao trabalho científi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necer informações a respeito dos trabalhos desenvolvidos na área de pesqu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necer exemplos de pontos de vista semelhantes ou divergentes sobre o assunto objeto de sua pesqu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1400" y="213840"/>
            <a:ext cx="541800" cy="514080"/>
          </a:xfrm>
          <a:prstGeom prst="bevel">
            <a:avLst>
              <a:gd name="adj" fmla="val 12500"/>
            </a:avLst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. Alves e Marili I. Lopes</a:t>
            </a: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84360" y="765000"/>
            <a:ext cx="4967280" cy="758880"/>
          </a:xfrm>
          <a:prstGeom prst="rect">
            <a:avLst/>
          </a:prstGeom>
          <a:solidFill>
            <a:srgbClr val="ffe6c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as de Ci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-32400"/>
            <a:ext cx="603360" cy="514080"/>
          </a:xfrm>
          <a:prstGeom prst="bevel">
            <a:avLst>
              <a:gd name="adj" fmla="val 12500"/>
            </a:avLst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438280"/>
            <a:ext cx="8229600" cy="289584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Dir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2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Indir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Outras formas de Ci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. Alves e Marili I. Lopes</a:t>
            </a: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816280"/>
          </a:xfrm>
          <a:prstGeom prst="rect">
            <a:avLst/>
          </a:prstGeom>
          <a:gradFill rotWithShape="0">
            <a:gsLst>
              <a:gs pos="0">
                <a:srgbClr val="fbfefb"/>
              </a:gs>
              <a:gs pos="100000">
                <a:srgbClr val="e7ffe7"/>
              </a:gs>
            </a:gsLst>
            <a:lin ang="108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É a transcrição ou cópia de um parágrafo, 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frase ou uma expressão, usando exatamente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mesmas palavras usadas pelo autor do trabal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consultado. Nesse caso, repete-se palavra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palavra e estas devem vir, obrigatori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entre “aspas duplas”, ou com destaque gráfic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seguidas da indicação da fonte consult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1219320" y="609120"/>
            <a:ext cx="4937040" cy="947880"/>
          </a:xfrm>
          <a:prstGeom prst="rect">
            <a:avLst/>
          </a:prstGeom>
          <a:solidFill>
            <a:srgbClr val="ffe6c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itação Dir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1400" y="213840"/>
            <a:ext cx="541800" cy="514080"/>
          </a:xfrm>
          <a:prstGeom prst="bevel">
            <a:avLst>
              <a:gd name="adj" fmla="val 12500"/>
            </a:avLst>
          </a:prstGeom>
          <a:solidFill>
            <a:srgbClr val="e7ffe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. Alves e Marili I. Lopes</a:t>
            </a: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02920" y="609480"/>
            <a:ext cx="6048360" cy="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Verdana"/>
              </a:rPr>
              <a:t>Citação Indireta ou paráfr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2636640"/>
            <a:ext cx="7924680" cy="2392200"/>
          </a:xfrm>
          <a:prstGeom prst="rect">
            <a:avLst/>
          </a:prstGeom>
          <a:solidFill>
            <a:srgbClr val="ffffff"/>
          </a:solidFill>
          <a:ln w="76320">
            <a:solidFill>
              <a:srgbClr val="79dfdd"/>
            </a:solidFill>
            <a:miter/>
          </a:ln>
          <a:effectLst>
            <a:outerShdw dist="153753" dir="2700000" blurRad="0" rotWithShape="0">
              <a:srgbClr val="79dfdd"/>
            </a:outerShdw>
          </a:effectLst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É a transcrição das idéias de um autor usando as próprias palavras. Ao contrário da citação direta, a  citação indireta deve ser encorajada, pois é a maneira que o pesquisador tem de ler, compreender e gerar conhecimento a partir do conhecimento de outros auto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1760" y="213840"/>
            <a:ext cx="541080" cy="514080"/>
          </a:xfrm>
          <a:prstGeom prst="bevel">
            <a:avLst>
              <a:gd name="adj" fmla="val 12500"/>
            </a:avLst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. Alves e Marili I. Lopes</a:t>
            </a: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76000" y="404280"/>
            <a:ext cx="6542280" cy="1143000"/>
          </a:xfrm>
          <a:prstGeom prst="rect">
            <a:avLst/>
          </a:prstGeom>
          <a:solidFill>
            <a:srgbClr val="ffe6c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Verdana"/>
              </a:rPr>
              <a:t>Dicas para se fazer uma citação indir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79dfdd"/>
            </a:outerShdw>
          </a:effectLst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) Leia e releia o texto original até que seja capaz de  reescrevê-lo com suas próprias palavr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b) Não use aspas nas citações indiretas/paráfras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) Anote os dados referentes a fonte: sobrenome do autor seguido do ano de publicação da obr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) Faça a referência no final do trabalh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9240" y="290160"/>
            <a:ext cx="549000" cy="514080"/>
          </a:xfrm>
          <a:prstGeom prst="bevel">
            <a:avLst>
              <a:gd name="adj" fmla="val 12500"/>
            </a:avLst>
          </a:prstGeom>
          <a:solidFill>
            <a:srgbClr val="ffe6c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. Alves e Marili I. Lopes</a:t>
            </a: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cc99"/>
                </a:solidFill>
                <a:latin typeface="Tahoma"/>
              </a:rPr>
              <a:t>Citação Direta</a:t>
            </a:r>
            <a:br>
              <a:rPr sz="2800"/>
            </a:br>
            <a:r>
              <a:rPr b="1" lang="en-US" sz="2800" spc="-1" strike="noStrike">
                <a:solidFill>
                  <a:srgbClr val="00cc99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cc99"/>
                </a:solidFill>
                <a:latin typeface="Tahoma"/>
              </a:rPr>
              <a:t>Regras gerais para apresentação</a:t>
            </a: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8064360" cy="388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79dfdd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Citações curtas, com até três linhas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: devem s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inseridas entre “aspas duplas” no tex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5000"/>
              </a:lnSpc>
              <a:spcBef>
                <a:spcPts val="1001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65000"/>
              </a:lnSpc>
              <a:spcBef>
                <a:spcPts val="876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Lopes e Batista (2000, p. 32)confirmam os argumentos anteriores ao declararem qu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65000"/>
              </a:lnSpc>
              <a:spcBef>
                <a:spcPts val="876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a mudança de rumo das atividades realizadas é preocupante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65000"/>
              </a:lnSpc>
              <a:spcBef>
                <a:spcPts val="876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66"/>
                </a:solidFill>
                <a:latin typeface="Verdana"/>
                <a:ea typeface="Times New Roman"/>
              </a:rPr>
              <a:t>Muitos estudantes e professores pensam que estão fazendo pesquisa quando 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66"/>
                </a:solidFill>
                <a:latin typeface="Verdana"/>
                <a:ea typeface="Times New Roman"/>
              </a:rPr>
              <a:t>verdade estão apenas “fazendo um relatório com algumas notas de rodapé.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66"/>
                </a:solidFill>
                <a:latin typeface="Verdana"/>
                <a:ea typeface="Times New Roman"/>
              </a:rPr>
              <a:t>(MCGREGOR, 1999, p.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65000"/>
              </a:lnSpc>
              <a:spcBef>
                <a:spcPts val="93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826920" y="4653000"/>
          <a:ext cx="107964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4653000"/>
                    <a:ext cx="10796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0" y="-208800"/>
            <a:ext cx="539640" cy="902520"/>
          </a:xfrm>
          <a:prstGeom prst="bevel">
            <a:avLst>
              <a:gd name="adj" fmla="val 12500"/>
            </a:avLst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2708280"/>
            <a:ext cx="8208720" cy="136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00000" y="4941720"/>
            <a:ext cx="863640" cy="360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u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08000" y="4941720"/>
            <a:ext cx="1511640" cy="360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no e pág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24000" y="2637000"/>
            <a:ext cx="1511280" cy="261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no e pág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6920" y="2637000"/>
            <a:ext cx="1222560" cy="287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ut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0846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5640" y="573408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67280" y="5589720"/>
            <a:ext cx="2160360" cy="287280"/>
          </a:xfrm>
          <a:custGeom>
            <a:avLst/>
            <a:gdLst>
              <a:gd name="textAreaLeft" fmla="*/ 635040 w 2160360"/>
              <a:gd name="textAreaRight" fmla="*/ 2160720 w 216036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0">
            <a:noFill/>
          </a:ln>
          <a:effectLst>
            <a:outerShdw dist="153753" dir="2700000" blurRad="0" rotWithShape="0">
              <a:srgbClr val="79df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50080"/>
            <a:ext cx="172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268360" y="2924280"/>
          <a:ext cx="1079640" cy="35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2924280"/>
                    <a:ext cx="107964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826920" y="2924280"/>
          <a:ext cx="1251000" cy="35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2924280"/>
                    <a:ext cx="125100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1979640" y="4653000"/>
          <a:ext cx="1152360" cy="330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9640" y="4653000"/>
                    <a:ext cx="11523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FSC/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Bernardete M. Alves e Marili I. Lopes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6T19:03:01Z</dcterms:created>
  <dc:creator>JBRA</dc:creator>
  <dc:description/>
  <dc:language>en-US</dc:language>
  <cp:lastModifiedBy>UFSC</cp:lastModifiedBy>
  <dcterms:modified xsi:type="dcterms:W3CDTF">2006-04-19T21:03:08Z</dcterms:modified>
  <cp:revision>365</cp:revision>
  <dc:subject/>
  <dc:title>Apresentação do PowerPoint</dc:title>
</cp:coreProperties>
</file>